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FDD-5DCF-4855-BCFE-B91EF2D6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A7B-5A56-412D-81D9-B015F080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11B-76DE-4A40-AFA8-4F4DCD9C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B2F-46B0-463E-81FA-ABA05CE5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7F1A-6485-450D-9D2A-C65C4D99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AC4-10D0-4EBB-9627-394A9A8C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316B-9E6A-4DDC-AD07-AEF829F5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A30-E685-4076-9802-272DD191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7F2-D32A-45DF-BAE6-D1CABA6D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B9C-611A-43D8-ACCA-5F9E5D29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9F3-8442-4560-9C8F-76FBC7CC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DA7-4830-401C-9CA5-6F765E7F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0848-A1C5-4A0A-B9A6-D6B9DBA8F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 D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ccharomy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om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uild with 43,426 papers, 44,690 abstracts and 3.2 million key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to port textpresso to a DBMS (mysql 5.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44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st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0.02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LAT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fi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data in 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80" t="14814" r="3921" b="5556"/>
          <a:stretch/>
        </p:blipFill>
        <p:spPr>
          <a:xfrm>
            <a:off x="457200" y="1752480"/>
            <a:ext cx="8458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7:36:52Z</dcterms:created>
  <dc:creator>Stan Dong</dc:creator>
  <dc:description/>
  <dc:language>en-US</dc:language>
  <cp:lastModifiedBy>Qing Dong</cp:lastModifiedBy>
  <dcterms:modified xsi:type="dcterms:W3CDTF">2006-06-28T01:54:43Z</dcterms:modified>
  <cp:revision>7</cp:revision>
  <dc:subject/>
  <dc:title>GMOD Meeting</dc:title>
</cp:coreProperties>
</file>